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E29-E4A4-42C3-9C4B-45DCFF53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D10-2D6B-466F-89A5-F4CACFBA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5C3-4C76-4F68-8807-4E40D656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07C-E8C8-4A2A-8897-D0A3DDDD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BC5-C06A-4963-8E45-45EFB061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57A3-FCD6-4C7D-99A3-EC1CFCC9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FD6-D00C-4044-B71B-F268C60D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BB2-5C34-4420-96E4-B8D874E7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D74-A984-44D4-8657-7964D436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5BC-8C36-4DAF-8B5A-94B0E5DA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1DD-FC76-407B-918D-3A535E6C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CAC-2BDB-408F-B793-9C68805B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9F02-54AA-4301-86DE-EA687EF50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e guide 5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Bonding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1219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lements combine to form a new substance.  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95280" y="15238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table elements (atoms) want to be stable, so they bond with other unstable elements (atoms) =  Octet Rule (outer energy level has 8 electrons, meaning the atom is stable and reached noble gas conf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25146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lectrons are the sub-atomic particle which is responsible for bonding.  Is it all of the electr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371600" y="3276720"/>
            <a:ext cx="7467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ence electrons (found in the last primary energy level) are the ones that b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62120" y="4038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 how do these valence electrons bond?  Well it depends on what the electrons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-2  Covalent bo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09480" y="1143000"/>
            <a:ext cx="754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Like ionic bonds, covalent bonds follow the octet rule when bon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838080" y="1600200"/>
            <a:ext cx="693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valent bonds involve the sharing of electrons to achieve stability, or to achieve the noble gas electron configuration – a full outer energy level (8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5800" y="2590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ngle covalent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14400" y="28954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is involves two atoms sharing one pair of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066680" y="32767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Hydrogen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066680" y="3657600"/>
            <a:ext cx="73915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•    +   •H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H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ellow are shared pair e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 atom          H atom  produces    Hydrogen molec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447920" y="4572000"/>
            <a:ext cx="7010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dots represent outer energy level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fter using the dots, we replace with dashes to represent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raw fluorine bonding on page 218 into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n the above diagram of a fluorine molecule notice that each 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ibutes only one electron to the sharing process, leaving oth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rs of electrons not sharing = unshared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066680" y="2057400"/>
            <a:ext cx="708660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 draw for diatomic molecules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r molecules of compounds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into notes pg 2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90720" y="3124080"/>
            <a:ext cx="739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carbon bonds with other atoms, it usually forms four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219320" y="38098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nceptual problem 8.1 pg. 220  (read and underst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371600" y="42670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Do practice problems in your note guide from page 220.  Include each molecul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5-2 day 2:  Double and Triple Covalent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85800" y="12193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can share more than one pair of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90720" y="16765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Double Covalent Bond – when atoms share 2 pair (4 total valence electrons). Shown by 2 dashes between bonding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143000" y="2438280"/>
            <a:ext cx="762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(draw oxygen bond on page 2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371600" y="2971800"/>
            <a:ext cx="69343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ide note: through experimentation, oxygen is one of the exceptions which do not follow the octet rul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nont draw an accurate electron dot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219320" y="42670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riple Covalent Bond – bond formed when sharing 3 pairs of valence electrons (6 total electrons). Shown by 3 d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447920" y="5029200"/>
            <a:ext cx="678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raw nitrogen bond on page 2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ordinate Covalent Bo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hown by an arrow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ead of dash –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14400" y="1219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bond in which one atom contributes both bonding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43000" y="16765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Carbon Monoxide (draw carbon monoxide picture – pg. 2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38080" y="2057400"/>
            <a:ext cx="769644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yatomic ion = tightly bound group of atoms that has a positive or negative charge AND behaves as a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320040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st polyatomic ions and cations have both covalent and coordinate covalent bonds.  This means that these compounds include both ionic and covalent bo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90720" y="4267080"/>
            <a:ext cx="7391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able 8.2 (pg. 224)for the following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gen peroxide, sulfur dioxide, nitric oxide, Hydrogen chlo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ual problem 8.2 pg. 2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2120" y="11430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-read and disc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14400" y="1676520"/>
            <a:ext cx="76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e problems 9, 10, 11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Guide 5-2 da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838080" y="990720"/>
            <a:ext cx="7696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is required to break bonds.   For example, it would take 435 kJ to break apart all of the bonds in 2 grams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219320" y="167652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is energy that is required to break covalent bonds is called bond dissociation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24382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 larger the bond dissociation energy, the larger the bond.  More energy is required to break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447920" y="320040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Carbon to carbon bonds are strong, therefore it takes a lot of energy to break the bonds.  Because it takes so much, compounds with only Carbon and Carbon - Hydrogen single covalent bonds are usually unreactive. (meth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990720" y="4419720"/>
            <a:ext cx="7238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metimes it is possible to draw 2 or more valid electron dot structures  having the same number of electron pairs for a molecule or 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se are called resonance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1066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e show resonance structures us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uble headed arr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371600" y="1523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Ozone bonding (draw formula on pg 227 in no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143000" y="20574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ack in the day, it was thought (incorrectly) the electron pairs would flip back and forth amongst the electron dot structur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8088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et Rule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09480" y="3276720"/>
            <a:ext cx="8001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annot use the octet rule in molecules whose total number of valence electrons is an odd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lso, there are times when atoms within molecules have less or more than a complete oc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914400" y="4800600"/>
            <a:ext cx="7696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 Nitrogen Dioxide (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has 17 total valence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so when it bonds, there is an unpaired electron present (se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ing pg. 2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re are also times when an even numbered molecule fails to meet the octet ru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600200" y="12193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X: some boron compounds (see bottom of pg.2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219320" y="19051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and there are times the octet rule is expanded to include more electrons.  Phosphorus and sulfur sometimes do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3 Note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57200" y="106668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Polarit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838080" y="1523880"/>
            <a:ext cx="7467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atoms bond covalently, the sharing electrons are pulled between the nuclei of the atoms sharing the electr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219320" y="22096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if this tug of war happens and they get pulled equally, we call the bo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onpolar coval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447920" y="3048120"/>
            <a:ext cx="655308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this occurs when atoms of the same element b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: 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;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143000" y="39625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if this tug of war happens and the sharing electrons get pulled closer to one nuclei than the other, we call the bo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olar coval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914400" y="4724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electronegativity values of each atom will determine which atom pulls and which atom gets pulled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ore electronegative atom attracts electrons mor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ngly and gains a slight negative char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00200" y="12193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the less electronegative atoms then ends up with a slightly positive char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76520" y="2209680"/>
          <a:ext cx="6629400" cy="281484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egativity difference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le bond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 – 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polar co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-H (0.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 – 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rately 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-Cl (0.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 –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-F  (1.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or equal to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o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2.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ow they Bo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on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90720" y="12193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Electrons transferred from one atom to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152388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ions (+ charged atoms) and Anions (- charged atoms) formed when atoms gain or lose valence electrons.  Well who gains, and who loses?  Please tell us ol’ wise on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66680" y="2438280"/>
            <a:ext cx="73152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ls have a low number of valence electrons so it is easier for them to lose their valence electrons to get to a complete octet than to gain to stability.  Therefore, they are 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remember, when naming the cation we just use the 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43000" y="419112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ransition metals (the B’s) are a bit strange.  The charge of the cations may vary.  Iron (Fe) for example can lose 2 or 3 valence electrons. Remember, we show those that have multiple ions with its charge in roman numbers = Iron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actions between molec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62120" y="6094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molecules can attract each other by a few forces.  These forces are weaker than ionic or covalent bonds, but they are import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143000" y="12952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VanderWaals forc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weakest attr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600200" y="1676520"/>
            <a:ext cx="6705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dipole interactions – polar molecules are attracted to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dispersion forces – caused by motion of the electr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219320" y="2971800"/>
            <a:ext cx="7315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Hydrogen bon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attractive forces in which a hydrogen covalently bonded to a very electronegative atom  is also weakly bonded to an unshared electron pair of another electronegative atom (can be in same molecule or a neighbor molecu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523880" y="4648320"/>
            <a:ext cx="701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-keep in mind a covalent bond must exist between a hydrogen atom and a highly electronegative atom  for a hydrogen bond to for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when naming anions remember we drop part of the element name and add suff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–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0720" y="685800"/>
            <a:ext cx="746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Nonmetals have a high number of valence electrons so it is easier for them to gain electrons to get to a complete octet.  There fore they are an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33520" y="22096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Ionic compounds are electrically neutral even though they are composed of ions.  The charges of all ions in the compound balance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895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Most ionic compounds are crystalline solids at room temp and generally have high melting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80880" y="35812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Metal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85800" y="3886200"/>
            <a:ext cx="80773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valence electrons of metal atoms can be molded as a sea of electr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e bonds are free floating valence electrons for the + charg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l ions, therefore a bond between valence elctrons and 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this sea of electrons give metals their properties….malleability and ductil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ing between atoms takes place because atoms crave st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TPChart"/>
          <p:cNvGraphicFramePr/>
          <p:nvPr/>
        </p:nvGraphicFramePr>
        <p:xfrm>
          <a:off x="304920" y="1828800"/>
          <a:ext cx="914400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91440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orShape1"/>
          <p:cNvSpPr/>
          <p:nvPr/>
        </p:nvSpPr>
        <p:spPr>
          <a:xfrm>
            <a:off x="1163520" y="212400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electrons within an atom are involved in the bonding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457200" y="1828800"/>
          <a:ext cx="881388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8138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97160" y="1981080"/>
            <a:ext cx="7137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orShape1"/>
          <p:cNvSpPr/>
          <p:nvPr/>
        </p:nvSpPr>
        <p:spPr>
          <a:xfrm rot="10800000">
            <a:off x="1163520" y="27097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 to the octet rule, an atom needs to achieve _____ electrons in its highest energy level to become 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CorShape1"/>
          <p:cNvSpPr/>
          <p:nvPr/>
        </p:nvSpPr>
        <p:spPr>
          <a:xfrm rot="10800000">
            <a:off x="223560" y="17427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valence electrons does an atom of any element in group 6A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114800" y="114300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14300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CorShape1"/>
          <p:cNvSpPr/>
          <p:nvPr/>
        </p:nvSpPr>
        <p:spPr>
          <a:xfrm>
            <a:off x="1523880" y="289548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aluminum atom loses its valence electrons, what is the charge on the resulting 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rShape1"/>
          <p:cNvSpPr/>
          <p:nvPr/>
        </p:nvSpPr>
        <p:spPr>
          <a:xfrm>
            <a:off x="1752480" y="2895480"/>
            <a:ext cx="29232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onic compoun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TPChart"/>
          <p:cNvGraphicFramePr/>
          <p:nvPr/>
        </p:nvGraphicFramePr>
        <p:xfrm>
          <a:off x="762120" y="1460520"/>
          <a:ext cx="85057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60520"/>
                    <a:ext cx="85057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97160" y="1600200"/>
            <a:ext cx="8229600" cy="17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ally 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d together by ionic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ed of anions and 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rShape1"/>
          <p:cNvSpPr/>
          <p:nvPr/>
        </p:nvSpPr>
        <p:spPr>
          <a:xfrm>
            <a:off x="4648320" y="3276720"/>
            <a:ext cx="253800" cy="253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2:18:33Z</dcterms:created>
  <dc:creator>jpak</dc:creator>
  <dc:description/>
  <dc:language>en-US</dc:language>
  <cp:lastModifiedBy>Customer</cp:lastModifiedBy>
  <dcterms:modified xsi:type="dcterms:W3CDTF">2009-11-12T15:22:18Z</dcterms:modified>
  <cp:revision>21</cp:revision>
  <dc:subject/>
  <dc:title>Noteguide 5-1 Basic Bonding Review</dc:title>
</cp:coreProperties>
</file>